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CD7-05DC-4E55-BE73-B123637B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F86-8238-4EFB-B00F-02EF0941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1B9-6013-4286-B82E-F4C8F6F0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D7A-3643-4395-A37C-69424EAE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153-99FC-41F4-8FD9-66D51D19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A95-C8BD-483F-9A89-F8146358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FFA-2524-42C7-8269-DC962BA0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578-C74A-4755-9386-AC898978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D60-FFB3-4981-86A3-807169BE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F8F-9403-4E64-BADC-7972446C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CEE-E933-4431-8EDB-22DCE27C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674-1A2E-431C-968B-F7FD084B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D2DC-2E4E-4E80-A1B2-FD609009A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394160" cy="492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Mini-BHKW‘s (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iz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raf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r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260280"/>
            <a:ext cx="3170160" cy="5400720"/>
            <a:chOff x="250920" y="260280"/>
            <a:chExt cx="3170160" cy="54007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23749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flipH="1" flipV="1">
              <a:off x="1547640" y="2708280"/>
              <a:ext cx="1873440" cy="29527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708360" y="1413000"/>
            <a:ext cx="5257800" cy="4903560"/>
            <a:chOff x="3708360" y="1413000"/>
            <a:chExt cx="5257800" cy="49035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796000" y="1413000"/>
              <a:ext cx="317016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580000" y="5300640"/>
              <a:ext cx="338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BHKW‘s erzeu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mic Sans MS"/>
                </a:rPr>
                <a:t>Heizwärme</a:t>
              </a: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 &amp; </a:t>
              </a:r>
              <a:r>
                <a:rPr b="1" lang="de-DE" sz="2400" spc="-1" strike="noStrike">
                  <a:solidFill>
                    <a:srgbClr val="00cc00"/>
                  </a:solidFill>
                  <a:latin typeface="Comic Sans MS"/>
                </a:rPr>
                <a:t>St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708360" y="3428640"/>
              <a:ext cx="2376360" cy="2087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9:53:15Z</dcterms:created>
  <dc:creator>BZTG</dc:creator>
  <dc:description/>
  <dc:language>en-US</dc:language>
  <cp:lastModifiedBy>BZTG</cp:lastModifiedBy>
  <dcterms:modified xsi:type="dcterms:W3CDTF">2006-10-08T10:49:04Z</dcterms:modified>
  <cp:revision>6</cp:revision>
  <dc:subject/>
  <dc:title>Folie 1</dc:title>
</cp:coreProperties>
</file>